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FAD-EE18-4F70-8F7B-B98E3238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0EF-020E-4012-8EA0-EFC23713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6E0-3C61-4BAB-AA2D-D0C79769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040-5842-48C6-94E6-55A655D6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B77-15D2-4C30-9494-C7FBC69C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AFA-BCFD-4356-8833-4D53C386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8E1-42AD-472F-A4DB-B427C9D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194-2BA4-4623-91BD-D0E3692D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969-99B7-4853-AE8B-4ADCAE78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25F-B948-4FD3-A380-E346AF9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68F-092E-44D6-9C21-0F70DDA1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630-A3F8-46D5-9F2E-2169DC7C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E44C-FB68-4629-9C44-EFF8CF57F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5105520" cy="5029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maple-leaf-border-v"/>
          <p:cNvPicPr/>
          <p:nvPr/>
        </p:nvPicPr>
        <p:blipFill>
          <a:blip r:embed="rId2"/>
          <a:stretch/>
        </p:blipFill>
        <p:spPr>
          <a:xfrm>
            <a:off x="0" y="0"/>
            <a:ext cx="7524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maple-leaf-border-v"/>
          <p:cNvPicPr/>
          <p:nvPr/>
        </p:nvPicPr>
        <p:blipFill>
          <a:blip r:embed="rId3"/>
          <a:stretch/>
        </p:blipFill>
        <p:spPr>
          <a:xfrm>
            <a:off x="8391600" y="0"/>
            <a:ext cx="752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905120" y="609480"/>
            <a:ext cx="609588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IETENI ÎN ORICE ANOTIMP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580200" y="5272560"/>
            <a:ext cx="331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a50021"/>
                </a:solidFill>
                <a:latin typeface="Arial"/>
              </a:rPr>
              <a:t>Toamnă, toamnă darnic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rietena noastră  </a:t>
            </a:r>
            <a:r>
              <a:rPr b="1" lang="ro-RO" sz="2000" spc="-1" strike="noStrike">
                <a:solidFill>
                  <a:srgbClr val="a50021"/>
                </a:solidFill>
                <a:latin typeface="Arial"/>
              </a:rPr>
              <a:t>au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a50021"/>
                </a:solidFill>
                <a:latin typeface="Arial"/>
              </a:rPr>
              <a:t>Ai venit din nou la no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a50021"/>
                </a:solidFill>
                <a:latin typeface="Arial"/>
              </a:rPr>
              <a:t>Te primim cu bucuri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   </a:t>
            </a: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Toamna cea de roade plină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 A copt fructele-n grădină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:</a:t>
            </a:r>
            <a:br>
              <a:rPr sz="1800"/>
            </a:b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Struguri aurii  în vii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Prune mari şi brumări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,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Pere galbene, zemoase,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58128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90720" y="1676520"/>
            <a:ext cx="3657600" cy="518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maple-leaf-border-v"/>
          <p:cNvPicPr/>
          <p:nvPr/>
        </p:nvPicPr>
        <p:blipFill>
          <a:blip r:embed="rId4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maple-leaf-border-v"/>
          <p:cNvPicPr/>
          <p:nvPr/>
        </p:nvPicPr>
        <p:blipFill>
          <a:blip r:embed="rId5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029200" cy="435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41148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29200" y="3886200"/>
            <a:ext cx="4114800" cy="226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maple-leaf-border-v"/>
          <p:cNvPicPr/>
          <p:nvPr/>
        </p:nvPicPr>
        <p:blipFill>
          <a:blip r:embed="rId4"/>
          <a:stretch/>
        </p:blipFill>
        <p:spPr>
          <a:xfrm>
            <a:off x="0" y="610560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43200" y="3981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Mere rumene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 frumoase,</a:t>
            </a:r>
            <a:br>
              <a:rPr sz="1800"/>
            </a:b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În „Cutia cu vitamine” le vo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 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pu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După gustare, tare-s bun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Suntem cu toţii „mere” rumene-n obraji,</a:t>
            </a:r>
            <a:br>
              <a:rPr sz="2000"/>
            </a:b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 Sănătoşi şi mereu voioş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373392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73392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126200" y="3886200"/>
            <a:ext cx="201780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00600" y="388620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aple-leaf-border-v"/>
          <p:cNvPicPr/>
          <p:nvPr/>
        </p:nvPicPr>
        <p:blipFill>
          <a:blip r:embed="rId6"/>
          <a:stretch/>
        </p:blipFill>
        <p:spPr>
          <a:xfrm>
            <a:off x="3809880" y="1523880"/>
            <a:ext cx="914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Toamna avem şi colegi pe care-i sărbătorim! Prieteni cu toţii,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l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e spunem din suflet </a:t>
            </a:r>
            <a:br>
              <a:rPr sz="2000"/>
            </a:b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„La mulţi ani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358128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33991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3581280" cy="234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3733920"/>
            <a:ext cx="3400560" cy="2666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aple-leaf-border-v"/>
          <p:cNvPicPr/>
          <p:nvPr/>
        </p:nvPicPr>
        <p:blipFill>
          <a:blip r:embed="rId5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maple-leaf-border-v"/>
          <p:cNvPicPr/>
          <p:nvPr/>
        </p:nvPicPr>
        <p:blipFill>
          <a:blip r:embed="rId6"/>
          <a:stretch/>
        </p:blipFill>
        <p:spPr>
          <a:xfrm>
            <a:off x="807732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" descr="maple-leaf-border-v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90000"/>
                </a:solidFill>
                <a:latin typeface="Arial"/>
              </a:rPr>
              <a:t>PĂLĂRIILE TOAMN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72428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24280" y="1295280"/>
            <a:ext cx="4419720" cy="4496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maple-leaf-border-v"/>
          <p:cNvPicPr/>
          <p:nvPr/>
        </p:nvPicPr>
        <p:blipFill>
          <a:blip r:embed="rId4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Cinstea, toleranţa, politeţea,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ac mai mult ca frumuseţea!</a:t>
            </a:r>
            <a:br>
              <a:rPr sz="1800"/>
            </a:b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Să fim mereu prietenoşi, buni şi cinstiţi,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d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acă vrem să fim iubiţi!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ă ne purtăm frumos, să fim ca nişte fra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!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Haideţi, cu toţii,  s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fi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toleran</a:t>
            </a:r>
            <a:r>
              <a:rPr b="1" lang="ro-RO" sz="1800" spc="-1" strike="noStrike">
                <a:solidFill>
                  <a:srgbClr val="a50021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276360" cy="548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2895480" cy="3124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19160" y="16002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aple-leaf-border-v"/>
          <p:cNvPicPr/>
          <p:nvPr/>
        </p:nvPicPr>
        <p:blipFill>
          <a:blip r:embed="rId4"/>
          <a:stretch/>
        </p:blipFill>
        <p:spPr>
          <a:xfrm>
            <a:off x="3886200" y="1447920"/>
            <a:ext cx="1066680" cy="541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aple-leaf-border-v"/>
          <p:cNvPicPr/>
          <p:nvPr/>
        </p:nvPicPr>
        <p:blipFill>
          <a:blip r:embed="rId5"/>
          <a:stretch/>
        </p:blipFill>
        <p:spPr>
          <a:xfrm>
            <a:off x="8229600" y="0"/>
            <a:ext cx="10666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maple-leaf-border-v"/>
          <p:cNvPicPr/>
          <p:nvPr/>
        </p:nvPicPr>
        <p:blipFill>
          <a:blip r:embed="rId6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23:32Z</dcterms:created>
  <dc:creator>user</dc:creator>
  <dc:description/>
  <dc:language>en-US</dc:language>
  <cp:lastModifiedBy>user</cp:lastModifiedBy>
  <dcterms:modified xsi:type="dcterms:W3CDTF">2011-11-20T15:07:25Z</dcterms:modified>
  <cp:revision>9</cp:revision>
  <dc:subject/>
  <dc:title>Diapozitivul 1</dc:title>
</cp:coreProperties>
</file>